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4B0-D97B-47FE-840C-45CC8DB8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A19-F166-488A-8294-68DD4866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981-3962-4D41-A99B-93255ADF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CF1-C87C-4A9A-A129-2ED556D77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71C7-5072-449F-A773-01C02A03F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DB37-01D8-4083-9DDC-84F1A9B2E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5FF-4C13-49AB-9552-7133D1690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663-9E35-4202-AA0B-ED228505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F6B-E2CC-41BB-A570-56A831DAD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E9E-CD9E-406A-A064-14B23094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34E-952E-467A-A757-9BC1B888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0DC-0C65-405F-B745-5FA2523C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CC5-31B4-4207-A640-FFF1ABE3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B5A-C576-4F93-B68C-23B8A0D3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3EFC-B493-4BF0-B30A-336A8689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75A-D7A8-48CC-B492-64E0F9A1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8B88-5484-4530-857B-1B50DB1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E729-061D-48F8-A47F-24E1E87D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787-EAB0-43C4-BDBB-C1BA72D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ADA-4CFC-4D6D-B32B-5B79C2D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EB1D-18BB-4202-B3C7-0EF17ABC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65C-5ABB-42FE-BCE0-E112F84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52C-6DEF-4247-887E-7E826CC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D4FB-92C5-4C00-A4ED-77551A7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FA2F-66BD-4E4E-89AE-CE27EB3A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775C-9E8A-4435-BAF8-20C285F9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342-A1C4-4BE6-9EAE-8D59C9E7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567-6203-4DB9-93B4-21738E6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D36-B643-478F-AC98-427F3A8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FAE-B7A7-4C2E-9120-93033DD8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07A-262B-4B6E-9EFB-741E151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8CF-58DA-4BBB-A4C6-3B1C591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79A-F269-4344-8975-D8454CF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224-4274-4747-80B2-62FA9B2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25C-7328-4015-8FEA-1DAB532E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>
                  <a:gd name="textAreaLeft" fmla="*/ 0 w 7501320"/>
                  <a:gd name="textAreaRight" fmla="*/ 7501680 w 750132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>
                    <a:gd name="textAreaLeft" fmla="*/ 0 w 912600"/>
                    <a:gd name="textAreaRight" fmla="*/ 912960 w 9126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>
                    <a:gd name="textAreaLeft" fmla="*/ 0 w 1281240"/>
                    <a:gd name="textAreaRight" fmla="*/ 1281600 w 1281240"/>
                    <a:gd name="textAreaTop" fmla="*/ 0 h 1062720"/>
                    <a:gd name="textAreaBottom" fmla="*/ 1063080 h 1062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709200"/>
                    <a:gd name="textAreaBottom" fmla="*/ 709560 h 70920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>
                    <a:gd name="textAreaLeft" fmla="*/ 0 w 1321920"/>
                    <a:gd name="textAreaRight" fmla="*/ 1322280 w 1321920"/>
                    <a:gd name="textAreaTop" fmla="*/ 0 h 1329840"/>
                    <a:gd name="textAreaBottom" fmla="*/ 1330200 h 1329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>
                    <a:gd name="textAreaLeft" fmla="*/ 0 w 899640"/>
                    <a:gd name="textAreaRight" fmla="*/ 900000 w 899640"/>
                    <a:gd name="textAreaTop" fmla="*/ 0 h 874080"/>
                    <a:gd name="textAreaBottom" fmla="*/ 874440 h 8740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>
                    <a:gd name="textAreaLeft" fmla="*/ 0 w 1805040"/>
                    <a:gd name="textAreaRight" fmla="*/ 1805400 w 1805040"/>
                    <a:gd name="textAreaTop" fmla="*/ 0 h 356400"/>
                    <a:gd name="textAreaBottom" fmla="*/ 356760 h 35640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6C4-21C3-4D2F-A9FD-6D24E41C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1280" y="2168640"/>
            <a:ext cx="6891480" cy="16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ame of Your Count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03848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Tea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stoms and Tradi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48320" y="2209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languages and religions of your country. Tell about the important customs and traditions celebrated in your count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urrent Ev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 of the ev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mary (5 senten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teracy R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infall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5" name="Object 5"/>
          <p:cNvGraphicFramePr/>
          <p:nvPr/>
        </p:nvGraphicFramePr>
        <p:xfrm>
          <a:off x="685800" y="214776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erature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682560" y="2133720"/>
          <a:ext cx="77407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133720"/>
                    <a:ext cx="77407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Where (your country) is locat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which conti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 is 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and whi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ries are 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ighb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647960" y="21337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45720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799920"/>
            <a:ext cx="83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Geographic Features of (your country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any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vers, lakes, ocea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ain ranges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geograph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that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or next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64796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mate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typical weather patterns in your country throughout the calendar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viro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ome of the environmental issues and natural hazards that take place in your cou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Histor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609480" y="2133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a timeline of the important historical events of your country or provi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3249720"/>
          <a:ext cx="8690040" cy="3471840"/>
        </p:xfrm>
        <a:graphic>
          <a:graphicData uri="http://schemas.openxmlformats.org/drawingml/2006/table">
            <a:tbl>
              <a:tblPr/>
              <a:tblGrid>
                <a:gridCol w="1576440"/>
                <a:gridCol w="1598760"/>
                <a:gridCol w="1751040"/>
                <a:gridCol w="1751400"/>
                <a:gridCol w="1576440"/>
                <a:gridCol w="216000"/>
                <a:gridCol w="21996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 of Event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th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84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overnment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at form of government and who is the leader of your country. Identify when and from whom your country gained independence fr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conomy of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440" y="214776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214776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which goods and services are produced in your country. What is the GDP per capita, unemployment rate, and population below the poverty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ourism in (your country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l about the points of interest in your country that people from other countries may be interested in vis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647960" y="21477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42:19Z</dcterms:created>
  <dc:creator>Connie Campbell</dc:creator>
  <dc:description/>
  <dc:language>en-US</dc:language>
  <cp:lastModifiedBy>rdepiro</cp:lastModifiedBy>
  <dcterms:modified xsi:type="dcterms:W3CDTF">2011-01-14T13:16:07Z</dcterms:modified>
  <cp:revision>8</cp:revision>
  <dc:subject/>
  <dc:title>Name of Your Country</dc:title>
</cp:coreProperties>
</file>